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250-851D-4EC0-AEAA-E03BA1D8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908-CE73-42E0-B5BC-B0B5566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1B6-CE54-4D13-BF56-BB702E16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A02-1FD9-4A37-A232-048B7DC0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5BA-A7F8-4A9C-8D86-30F8F562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148-1036-41DC-B4B4-9ED98D0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2AE-5550-46C8-88C2-B279A0E5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E98-01CD-452F-8256-9F9AF9B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C8E-D3E3-412D-9C4A-2928D0C7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84A-B132-44C4-B62B-A03CB6FB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ED6-05EF-484B-BEF5-87F29F2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9D1-5EE2-4710-8BC8-6CC961F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464E-972C-467F-A303-91C78FE59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236232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13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655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4680" y="4267080"/>
            <a:ext cx="6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9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2895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248520" y="5181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1143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143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1880" y="3429000"/>
            <a:ext cx="6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3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51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66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705720" y="4419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990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61960" y="6553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6560" y="3505320"/>
            <a:ext cx="6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48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6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78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990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2004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0496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0880" y="4100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080" y="4419720"/>
            <a:ext cx="6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8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9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33920" y="5257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724280" y="228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181480" y="22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228600"/>
            <a:ext cx="540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7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8112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95800" y="533520"/>
            <a:ext cx="3181320" cy="5562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144756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3228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840" y="488952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4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9718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6200" y="365760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8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004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3623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9000" y="350532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9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4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6668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6440" y="482616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6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1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8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102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5200" y="608004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733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2240" y="443232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5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20120" y="5257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18800" y="6004080"/>
            <a:ext cx="275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4419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447920" y="533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3640" y="2803680"/>
            <a:ext cx="61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16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24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3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8108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53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429000" y="76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267080" y="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2000" y="-76320"/>
            <a:ext cx="51588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9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304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38120" y="304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3352680" cy="5486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flipH="1">
            <a:off x="220968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95480" y="838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6080" y="228600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68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4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3123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33360" y="4572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78880" y="198108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8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5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93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57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590920" y="2819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29718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9040" y="2819520"/>
            <a:ext cx="51588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9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4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0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32004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31360" y="426708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6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57164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3733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5520" y="3505320"/>
            <a:ext cx="51588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6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61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723920" y="38862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5867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5867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2040" y="585144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4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7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6248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2412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1371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6400" y="53352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0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5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22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2428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2666880" cy="5943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H="1">
            <a:off x="28195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905120" y="16002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2520" y="265104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2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65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004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38098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3886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12240" y="3733920"/>
            <a:ext cx="51588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4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41148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29200" y="41148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743200" cy="5562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flipH="1">
            <a:off x="2057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43200" y="914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6640" y="2514600"/>
            <a:ext cx="61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0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15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28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2408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8072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7160" y="2270160"/>
            <a:ext cx="61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13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26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39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609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514600" y="3123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595680" y="1400040"/>
            <a:ext cx="1952640" cy="4057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V="1">
            <a:off x="3809880" y="837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341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8280" y="68580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7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8006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38098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38098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9960" y="3565440"/>
            <a:ext cx="51588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6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9625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76560" y="39625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733920" y="990720"/>
            <a:ext cx="2209680" cy="5638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2400" y="5029200"/>
            <a:ext cx="53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4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095880" y="5866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6553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495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981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8360" y="2819520"/>
            <a:ext cx="53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3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09588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776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819160" y="655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30080" y="4876920"/>
            <a:ext cx="53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3962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33920" y="5715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4290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2880" y="4876920"/>
            <a:ext cx="53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9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76720" y="5715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9810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781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1880" y="3733920"/>
            <a:ext cx="6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2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35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49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05520" y="76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38480" y="380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562720" y="304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3080" y="228600"/>
            <a:ext cx="53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7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35268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33920" y="2133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133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905120"/>
            <a:ext cx="53964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6483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429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055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5280" y="3262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184560"/>
            <a:ext cx="53964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3300"/>
                </a:solidFill>
                <a:latin typeface="Times New Roman"/>
              </a:rPr>
              <a:t>31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3300"/>
                </a:solidFill>
                <a:latin typeface="Times New Roman"/>
              </a:rPr>
              <a:t>35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3300"/>
                </a:solidFill>
                <a:latin typeface="Times New Roman"/>
              </a:rPr>
              <a:t>41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4191120" y="16761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632840" y="1066680"/>
            <a:ext cx="61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4.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06216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3124080" y="457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456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79132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800" y="135576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6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1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0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800600" y="1752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4120" y="53352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2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91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76920" y="914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629160" cy="5224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2895480" y="228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28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0440" y="38088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4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4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93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838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105160" y="838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486400" cy="510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1981080" y="304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304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6840" y="593640"/>
            <a:ext cx="61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47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64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8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914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028840" y="914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35268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33920" y="2362320"/>
            <a:ext cx="1295280" cy="114120"/>
          </a:xfrm>
          <a:custGeom>
            <a:avLst/>
            <a:gdLst/>
            <a:ahLst/>
            <a:rect l="l" t="t" r="r" b="b"/>
            <a:pathLst>
              <a:path w="816" h="72">
                <a:moveTo>
                  <a:pt x="0" y="0"/>
                </a:moveTo>
                <a:cubicBezTo>
                  <a:pt x="116" y="36"/>
                  <a:pt x="232" y="7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5280" y="2208240"/>
            <a:ext cx="1839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1920" y="1905120"/>
            <a:ext cx="61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98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17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796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51240" y="281772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1920" y="2651040"/>
            <a:ext cx="612000" cy="778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9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09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0024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581280"/>
            <a:ext cx="1219320" cy="152640"/>
          </a:xfrm>
          <a:custGeom>
            <a:avLst/>
            <a:gdLst/>
            <a:ahLst/>
            <a:rect l="l" t="t" r="r" b="b"/>
            <a:pathLst>
              <a:path w="816" h="72">
                <a:moveTo>
                  <a:pt x="0" y="0"/>
                </a:moveTo>
                <a:cubicBezTo>
                  <a:pt x="116" y="36"/>
                  <a:pt x="232" y="72"/>
                  <a:pt x="81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5160" y="3352680"/>
            <a:ext cx="61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9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03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2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65760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7960" y="3657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35268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35268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1106640"/>
            <a:ext cx="457200" cy="74520"/>
          </a:xfrm>
          <a:custGeom>
            <a:avLst/>
            <a:gdLst/>
            <a:ahLst/>
            <a:rect l="l" t="t" r="r" b="b"/>
            <a:pathLst>
              <a:path w="816" h="72">
                <a:moveTo>
                  <a:pt x="0" y="0"/>
                </a:moveTo>
                <a:cubicBezTo>
                  <a:pt x="116" y="36"/>
                  <a:pt x="232" y="72"/>
                  <a:pt x="81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64880" y="76212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57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6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648320" y="1066680"/>
            <a:ext cx="759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114440" y="1066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86200" y="1147680"/>
            <a:ext cx="3171600" cy="4562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6920" y="990720"/>
            <a:ext cx="1523880" cy="2057400"/>
          </a:xfrm>
          <a:custGeom>
            <a:avLst/>
            <a:gdLst/>
            <a:ahLst/>
            <a:rect l="l" t="t" r="r" b="b"/>
            <a:pathLst>
              <a:path w="1200" h="1440">
                <a:moveTo>
                  <a:pt x="1200" y="1440"/>
                </a:moveTo>
                <a:cubicBezTo>
                  <a:pt x="1088" y="740"/>
                  <a:pt x="976" y="4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43200" y="990720"/>
            <a:ext cx="1371600" cy="2133360"/>
          </a:xfrm>
          <a:custGeom>
            <a:avLst/>
            <a:gdLst/>
            <a:ahLst/>
            <a:rect l="l" t="t" r="r" b="b"/>
            <a:pathLst>
              <a:path w="1200" h="1440">
                <a:moveTo>
                  <a:pt x="1200" y="1440"/>
                </a:moveTo>
                <a:cubicBezTo>
                  <a:pt x="1088" y="740"/>
                  <a:pt x="976" y="4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83640" y="457200"/>
            <a:ext cx="51588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5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4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990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00600" y="990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800" y="563868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3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0024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5415120" cy="312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0666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21880" y="480060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105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114800" y="5105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95680" y="1066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36080" y="1279440"/>
            <a:ext cx="51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676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8640" y="1676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438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8006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160" y="3260880"/>
            <a:ext cx="42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781680" y="4038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0T17:05:09Z</dcterms:created>
  <dc:creator>USUARIO SEP</dc:creator>
  <dc:description/>
  <dc:language>en-US</dc:language>
  <cp:lastModifiedBy>Dinamica S.A.</cp:lastModifiedBy>
  <dcterms:modified xsi:type="dcterms:W3CDTF">1999-11-20T16:29:39Z</dcterms:modified>
  <cp:revision>14</cp:revision>
  <dc:subject/>
  <dc:title>Sin título de diapositiva</dc:title>
</cp:coreProperties>
</file>